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jpeg" ContentType="image/jpeg"/>
  <Override PartName="/ppt/media/image4.wmf" ContentType="image/x-wmf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20CBE-86D2-4D28-9DEA-2DB9D2B73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E1176-EF8C-49F3-A6D8-E11A9EAA2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8DA98-6C19-489F-8FED-A41C30E17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25DE7-1214-40EF-A4E8-318573F9A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75E13-E7C3-4760-B096-6FEFC2BE0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64C6B-39B5-4309-A621-C386D031D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35708-EEAE-4F63-858D-34791A6FA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3606E-CA98-49D3-8323-222229B91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372CF-DA93-46FA-B38E-2D047735D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CA019-9332-420B-A3FC-D32B5BE0A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EC216-D6D5-416A-AD93-968F94AA0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E937E-798C-4257-88B6-A6A869C23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ff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3B214-E38D-4C98-82FF-AE67BDD5EE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hyperlink" Target="http://www.50states.com/vermont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hyperlink" Target="http://bensguide.gpo.gov/3-5/state/vermont.html" TargetMode="Externa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postcardsfrom.com/t1/971028.html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hyperlink" Target="http://www.postcardsfrom.com/stamp/stamp-vt.html" TargetMode="Externa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99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 rot="21115800">
            <a:off x="837720" y="228600"/>
            <a:ext cx="6172200" cy="388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0361"/>
                <a:gd name="adj2" fmla="val -17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00cc"/>
                    </a:gs>
                    <a:gs pos="100000">
                      <a:srgbClr val="41e3eb"/>
                    </a:gs>
                  </a:gsLst>
                  <a:lin ang="5886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Vermont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00cc"/>
                  </a:gs>
                  <a:gs pos="100000">
                    <a:srgbClr val="41e3eb"/>
                  </a:gs>
                </a:gsLst>
                <a:lin ang="5886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410080" y="4343400"/>
            <a:ext cx="373392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nk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/20/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iod 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4572000"/>
            <a:ext cx="2895480" cy="21337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52280" y="4191120"/>
            <a:ext cx="15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p A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971800" y="5257800"/>
            <a:ext cx="2286000" cy="13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0 states, state song, 10/7/10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50states.com/vermo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3886200" y="4800600"/>
            <a:ext cx="45720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" dur="42194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ff"/>
            </a:gs>
            <a:gs pos="100000">
              <a:srgbClr val="0000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228600" y="0"/>
            <a:ext cx="861048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fornian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fornian FB"/>
              </a:rPr>
              <a:t>State Name: Vermo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fornian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fornian FB"/>
              </a:rPr>
              <a:t>State Capital: Montpeli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fornian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fornian FB"/>
              </a:rPr>
              <a:t>Population: 623,050 ( us census 2005 estimat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fornian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fornian FB"/>
              </a:rPr>
              <a:t>Entered the Union: 14    march 14,1791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fornian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fornian FB"/>
              </a:rPr>
              <a:t>Motto: Freedom and 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fornian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fornian FB"/>
              </a:rPr>
              <a:t>Nickname: the green mountain st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fornian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fornian FB"/>
              </a:rPr>
              <a:t>Flower: Red Clo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fornian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fornian FB"/>
              </a:rPr>
              <a:t>Bird: Hermit Thru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fornian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fornian FB"/>
              </a:rPr>
              <a:t>Song :Hail Vermo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6705720" y="3736800"/>
            <a:ext cx="2438280" cy="312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100000">
              <a:srgbClr val="00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304560" y="228600"/>
            <a:ext cx="84582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fornian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fornian FB"/>
              </a:rPr>
              <a:t>Meaning Behind Name: Green Mount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fornian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fornian FB"/>
              </a:rPr>
              <a:t>Interesting Facts: no gemstones but has Granite, Marble, Slate and minerals ( talc, grossularite, granit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838080" y="3429000"/>
            <a:ext cx="3251160" cy="27432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676520" y="6248520"/>
            <a:ext cx="175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p A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1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6" dur="1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100000">
              <a:srgbClr val="99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Vermont: Map and State Flag"/>
          <p:cNvPicPr/>
          <p:nvPr/>
        </p:nvPicPr>
        <p:blipFill>
          <a:blip r:embed="rId1"/>
          <a:srcRect l="14994" t="35369" r="12500" b="0"/>
          <a:stretch/>
        </p:blipFill>
        <p:spPr>
          <a:xfrm>
            <a:off x="6095880" y="1143000"/>
            <a:ext cx="3048120" cy="5410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Vermont: Map and State Flag"/>
          <p:cNvPicPr/>
          <p:nvPr/>
        </p:nvPicPr>
        <p:blipFill>
          <a:blip r:embed="rId2"/>
          <a:srcRect l="0" t="0" r="0" b="69426"/>
          <a:stretch/>
        </p:blipFill>
        <p:spPr>
          <a:xfrm>
            <a:off x="0" y="0"/>
            <a:ext cx="4952880" cy="3048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838080" y="3429000"/>
            <a:ext cx="54864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n’s Guide to US Government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Quick Facts: Vermo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September 22, 201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bensguide.gpo.gov/3-5/state/vermont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010280" y="281952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Vermont</a:t>
            </a:r>
            <a:r>
              <a:rPr b="0" lang="en-US" sz="1800" spc="-1" strike="noStrike">
                <a:solidFill>
                  <a:srgbClr val="ff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257800" y="304920"/>
            <a:ext cx="358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fornian FB"/>
              </a:rPr>
              <a:t>This is the state and the flag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All images Copyright © 1997 - 2000 WriteLine. All Rights Reserved."/>
          <p:cNvPicPr/>
          <p:nvPr/>
        </p:nvPicPr>
        <p:blipFill>
          <a:blip r:embed="rId1"/>
          <a:stretch/>
        </p:blipFill>
        <p:spPr>
          <a:xfrm>
            <a:off x="0" y="609480"/>
            <a:ext cx="9144000" cy="44960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0" y="5257800"/>
            <a:ext cx="678168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tcard from America,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Montpelier, V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September 23, 2010,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postcardsfrom.com/t1/971028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905120" y="15228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fornian FB"/>
              </a:rPr>
              <a:t>This is a beautiful place to be</a:t>
            </a:r>
            <a:r>
              <a:rPr b="0" lang="en-US" sz="2400" spc="-1" strike="noStrike">
                <a:solidFill>
                  <a:srgbClr val="000000"/>
                </a:solidFill>
                <a:latin typeface="Californian FB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0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ff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Copyright © 1997 WriteLine. All Rights Reserved. Hermit Thrush stamp"/>
          <p:cNvPicPr/>
          <p:nvPr/>
        </p:nvPicPr>
        <p:blipFill>
          <a:blip r:embed="rId1"/>
          <a:srcRect l="10343" t="7642" r="10343" b="8398"/>
          <a:stretch/>
        </p:blipFill>
        <p:spPr>
          <a:xfrm>
            <a:off x="457200" y="304920"/>
            <a:ext cx="3809880" cy="37335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Copyright © 1997 WriteLine. All Rights Reserved. Red Clover stamp"/>
          <p:cNvPicPr/>
          <p:nvPr/>
        </p:nvPicPr>
        <p:blipFill>
          <a:blip r:embed="rId2"/>
          <a:srcRect l="9612" t="9622" r="9612" b="7691"/>
          <a:stretch/>
        </p:blipFill>
        <p:spPr>
          <a:xfrm>
            <a:off x="5181480" y="2743200"/>
            <a:ext cx="3581640" cy="3733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4572000"/>
            <a:ext cx="5029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0" y="4114800"/>
            <a:ext cx="5029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tcard from America,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Vermont State Stamp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ptember 23, 2010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postcardsfrom.com/stamp/stamp-vt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876920" y="990720"/>
            <a:ext cx="3962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fornian FB"/>
              </a:rPr>
              <a:t>This is the state bird and flow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3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68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0T13:21:55Z</dcterms:created>
  <dc:creator>install</dc:creator>
  <dc:description/>
  <dc:language>en-US</dc:language>
  <cp:lastModifiedBy>install</cp:lastModifiedBy>
  <dcterms:modified xsi:type="dcterms:W3CDTF">2010-10-14T13:19:54Z</dcterms:modified>
  <cp:revision>15</cp:revision>
  <dc:subject/>
  <dc:title>Slide 1</dc:title>
</cp:coreProperties>
</file>